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429-6DE0-484D-91DD-98DD5E2D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7FC-833C-45CE-BA04-0D369EE5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FFA-3E6B-472C-8791-8DFB7503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88E-B88E-4E4A-BD14-BBBFF667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1517-21E7-42D0-B2CB-50A197B7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B387-A754-4F5C-A9A1-97086EA6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D2E0-4B97-4E08-B242-63AE9EAC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9204-5A36-4F65-9176-97E29071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6C17-0048-4A32-9869-2E59A3A4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12A2-4FD8-420F-97B5-92240D20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0530-9FF4-474A-A6A2-49850EDF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866-C177-42AB-A592-3F14DB23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2EE4-6D2F-47CD-AF48-B83C9B9A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2D53-F4C9-4C5C-8A11-F4B23E3F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1F9C-4F14-4BF3-8EFE-891E6AF5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6FA3-024A-4B7B-BFA6-D2E69822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F375-DA39-4F4D-AA8D-2DED6677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7D34-A6B8-4A71-83E0-C0C3861D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DBE-D2BB-46D6-8F00-12C4765F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29C-5B18-412B-803B-8F4D6DBE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D9F-4388-477E-88B0-0D0B3913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C7D-CEDD-4282-8EC9-581B829D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ED7-2F35-44E2-95A6-BC36CA2B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7B5-3F27-42F0-B867-899B3796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CF7A-B887-4CD9-B0A1-13DEB678CA2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8F9D-024E-40CA-8D64-728402870F3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0/310/1420310/f_5710274.jpg" TargetMode="External"/><Relationship Id="rId2" Type="http://schemas.openxmlformats.org/officeDocument/2006/relationships/hyperlink" Target="http://www.demoscope.ru/weekly/2002/085/img/litta.jpg" TargetMode="External"/><Relationship Id="rId3" Type="http://schemas.openxmlformats.org/officeDocument/2006/relationships/hyperlink" Target="http://cravingideas.blogs.com/photos/uncategorized/mona_lisa_1.jpg" TargetMode="External"/><Relationship Id="rId4" Type="http://schemas.openxmlformats.org/officeDocument/2006/relationships/hyperlink" Target="http://www.abc-people.com/data/leonardov/vecherya1.jpg" TargetMode="External"/><Relationship Id="rId5" Type="http://schemas.openxmlformats.org/officeDocument/2006/relationships/hyperlink" Target="http://waking-up.org/wp-content/uploads/2011/06/Michelangelo_portrait.jpg" TargetMode="External"/><Relationship Id="rId6" Type="http://schemas.openxmlformats.org/officeDocument/2006/relationships/hyperlink" Target="http://3-21vzlet.ru/wp-content/uploads/2011/08/david.jpg" TargetMode="External"/><Relationship Id="rId7" Type="http://schemas.openxmlformats.org/officeDocument/2006/relationships/hyperlink" Target="http://www.centre.smr.ru/images/pics/pic0116/pic0116_1024.jpg" TargetMode="External"/><Relationship Id="rId8" Type="http://schemas.openxmlformats.org/officeDocument/2006/relationships/hyperlink" Target="http://www.histoiredelart.net/artistes/XVI/tableaux_raphael/Raphael-Autoportrait-1506.jpg" TargetMode="External"/><Relationship Id="rId9" Type="http://schemas.openxmlformats.org/officeDocument/2006/relationships/hyperlink" Target="http://www.legacyofthecauldron.com/Raphael_ConestabileSQ.jpg" TargetMode="External"/><Relationship Id="rId10" Type="http://schemas.openxmlformats.org/officeDocument/2006/relationships/hyperlink" Target="http://img0.liveinternet.ru/images/attach/c/3/83/293/83293330_Rafael_017__Sikstinskaya_madonna.jpg" TargetMode="External"/><Relationship Id="rId11" Type="http://schemas.openxmlformats.org/officeDocument/2006/relationships/hyperlink" Target="http://www.usc.edu/schools/annenberg/asc/projects/comm544/library/images/008.jpg" TargetMode="External"/><Relationship Id="rId12" Type="http://schemas.openxmlformats.org/officeDocument/2006/relationships/hyperlink" Target="http://www.ibiblio.org/wm/paint/auth/bruegel/dance.jpg" TargetMode="External"/><Relationship Id="rId13" Type="http://schemas.openxmlformats.org/officeDocument/2006/relationships/hyperlink" Target="http://de.academic.ru/pictures/dewiki/80/Pieter_Bruegel_the_Elder-_The_Corn_Harvest_(August).JPG" TargetMode="External"/><Relationship Id="rId14" Type="http://schemas.openxmlformats.org/officeDocument/2006/relationships/hyperlink" Target="http://www.math.nus.edu.sg/~matmcinn/picture/Brueghel_the_elder_-_Hunters_in_the_snow.jpg" TargetMode="External"/><Relationship Id="rId15" Type="http://schemas.openxmlformats.org/officeDocument/2006/relationships/hyperlink" Target="http://img-fotki.yandex.ru/get/4711/53496785.93/0_78eee_36d30baa_XL" TargetMode="External"/><Relationship Id="rId16" Type="http://schemas.openxmlformats.org/officeDocument/2006/relationships/hyperlink" Target="http://www.artholland.ru/art/r/rembrand/img/94.jpg" TargetMode="External"/><Relationship Id="rId17" Type="http://schemas.openxmlformats.org/officeDocument/2006/relationships/hyperlink" Target="http://blog.artnn.ru/images_2006/vozvraschenie_bludnogo_syna_rembrandt_1669.jpg" TargetMode="External"/><Relationship Id="rId18" Type="http://schemas.openxmlformats.org/officeDocument/2006/relationships/hyperlink" Target="http://www.bibliotekar.ru/Kdurer/index.files/image001.jpg" TargetMode="External"/><Relationship Id="rId19" Type="http://schemas.openxmlformats.org/officeDocument/2006/relationships/hyperlink" Target="http://www.zavtra.ru/cgi/veil/data/zavtra/11/906/81.jpg" TargetMode="External"/><Relationship Id="rId20" Type="http://schemas.openxmlformats.org/officeDocument/2006/relationships/hyperlink" Target="http://www.lib.unc.edu/coursepages/reli/images/Durer_Erasmus.jpg" TargetMode="External"/><Relationship Id="rId21" Type="http://schemas.openxmlformats.org/officeDocument/2006/relationships/hyperlink" Target="http://s05.radikal.ru/i178/0908/02/4c6013b5b4b3.jpg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457200"/>
            <a:ext cx="7238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Book Antiqua"/>
              </a:rPr>
              <a:t>Мир художественной культуры                                   Эпохи Возрождения</a:t>
            </a:r>
            <a:r>
              <a:rPr b="1" lang="en-US" sz="60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448000" cy="1836720"/>
          </a:xfrm>
          <a:prstGeom prst="rect">
            <a:avLst/>
          </a:prstGeom>
          <a:ln w="9360">
            <a:solidFill>
              <a:srgbClr val="3366cc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438280" y="3809880"/>
            <a:ext cx="6507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Учитель истории и обществознани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анюшин Михаил Евгеньевич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БОУ Ичалковская СОШ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Перевозский райо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Нижегородская область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афаэль Сан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83-152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3889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543708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 Конестабиле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68840" y="228600"/>
            <a:ext cx="5062320" cy="6400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2133720"/>
            <a:ext cx="32004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икстинская мадон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Картинная галерея, Дрезде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итер Брейгель Старший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          (1525/1530-15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32280" y="1523880"/>
            <a:ext cx="4003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592280"/>
            <a:ext cx="7238880" cy="505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Крестьянский танец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7172280" cy="4924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Жатв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Метрополитен, Нью-Йорк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219800" cy="5069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Охотники на снегу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ембрандт Харменс ван Рейн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  (1606-16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24360" y="1523880"/>
            <a:ext cx="4147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921200" cy="628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ортрет старика в красном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127840" cy="6315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213372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Возвращение блудного сы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Леонардо да Винчи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52-151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754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Альбрехт Дюрер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71-1528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11560" y="1219320"/>
            <a:ext cx="3929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46112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2133720"/>
            <a:ext cx="39625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Четыре апокалиптических всадник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 из серии «Апокалипсис»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1040" y="304920"/>
            <a:ext cx="4825800" cy="624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2209680"/>
            <a:ext cx="3962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Эразм Роттердамский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Ганс Гольбейн Младший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97-1543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79640" y="1143000"/>
            <a:ext cx="4005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46680" y="304920"/>
            <a:ext cx="5005080" cy="6248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205740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Уильяма Уорхэм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889520" cy="6410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2209680"/>
            <a:ext cx="342900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члена семьи Ведигов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узей Метрополитен,   Нью-Йорк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иего Веласкес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599-166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4329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35240" y="304920"/>
            <a:ext cx="5819760" cy="6248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2362320"/>
            <a:ext cx="28958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Завтрак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1654200"/>
            <a:ext cx="7543800" cy="4903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ряхи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Прадо, Мадрид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1. Рембрандт и Рафаэль бы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путешественниками, открывшими новые земли                                                                         2) художниками эпохи Возрождения                  3) учёными и философами                                   4) драматургам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80988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2. Создатель статуи «Давид»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2) Микеланджело Буонарроти                                 3) Альбрехт Дюрер                                                    4) Томас Мор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0574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8006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4940280" cy="6350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2133720"/>
            <a:ext cx="3657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Литта  (Мадонна с младенцем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3. Картину «Возвращение блудного сына» написал художник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                         2) Альбрехт Дюрер                                                 3) Рафаэль Санти                                                    4) Рембранд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657600"/>
            <a:ext cx="754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4. Изображение сюжетов из жизни простых крестьян и горожан характеризует искусств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ьянского Возрождения                                                2) Северного Возрождения                                    3) готическое                                                             4) антично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743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029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6858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5. Ранее всего эпоха Возрождения началась в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ии                                                                         2) Испании                                                                   3) Германии                                                                 4) Голланди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200400"/>
            <a:ext cx="7543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6. Отличительной чертой искусства эпохи Возрождения был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спользование цветомузыки                                                2) использование библейских сюжетов                                    3) использование достижений античной культуры                                                                   4) отсутствие портретного сходства в изображении люде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29528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876920"/>
            <a:ext cx="990720" cy="304560"/>
          </a:xfrm>
          <a:custGeom>
            <a:avLst/>
            <a:gdLst>
              <a:gd name="textAreaLeft" fmla="*/ 15480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522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В1. Установите соответствие между автором и произведением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397160"/>
          <a:ext cx="8077320" cy="345600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Леонардо да Винчи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«Портрет старика в красном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итер Брейгель Старший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«Четыре всадника Апокалипсиса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Альбрехт Дюре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«Тайная вечеря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«Крестьянский танец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5257800"/>
          <a:ext cx="6096240" cy="1270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5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1629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5943600"/>
            <a:ext cx="2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055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3880" y="533520"/>
            <a:ext cx="71629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Литератур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Юдовская А.Я., Баранов П.А., Ванюшкина Л.М. Новая история, 1500-1800, 7 класс. М.: «Просвещение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оловьёв К.А. Универсальные поурочные разработки по Новой истории, 1500-1800гг., 7 класс. М.: «Вако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Волкова К.В. Контрольно-измерительные материалы. История Нового времени: 7 класс. М.: «Вако», 2011г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52280"/>
            <a:ext cx="8381880" cy="68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Интернет ресурсы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"/>
              </a:rPr>
              <a:t>http://img1.liveinternet.ru/images/foto/b/0/310/1420310/f_571027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"/>
              </a:rPr>
              <a:t>http://www.demoscope.ru/weekly/2002/085/img/litt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адонна Литт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3"/>
              </a:rPr>
              <a:t>http://cravingideas.blogs.com/photos/uncategorized/mona_lisa_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она Лиз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4"/>
              </a:rPr>
              <a:t>http://www.abc-people.com/data/leonardov/vecherya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Тайная вечеря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5"/>
              </a:rPr>
              <a:t>http://waking-up.org/wp-content/uploads/2011/06/Michelangelo_portrait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6"/>
              </a:rPr>
              <a:t>http://3-21vzlet.ru/wp-content/uploads/2011/08/david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Давид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7"/>
              </a:rPr>
              <a:t>http://www.centre.smr.ru/images/pics/pic0116/pic0116_102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Сотворение Ада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8"/>
              </a:rPr>
              <a:t>http://www.histoiredelart.net/artistes/XVI/tableaux_raphael/Raphael-Autoportrait-1506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9"/>
              </a:rPr>
              <a:t>http://www.legacyofthecauldron.com/Raphael_ConestabileSQ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Мадонна Конестабиле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0"/>
              </a:rPr>
              <a:t>http://img0.liveinternet.ru/images/attach/c/3/83/293/83293330_Rafael_017__Sikstinskaya_madonn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Сикстинская мадон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 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1"/>
              </a:rPr>
              <a:t>http://www.usc.edu/schools/annenberg/asc/projects/comm544/library/images/008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2"/>
              </a:rPr>
              <a:t>http://www.ibiblio.org/wm/paint/auth/bruegel/dance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Крестьянский танец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3"/>
              </a:rPr>
              <a:t>http://de.academic.ru/pictures/dewiki/80/Pieter_Bruegel_the_Elder-_The_Corn_Harvest_(August)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– Питер Брейгель Старший – Жатв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4"/>
              </a:rPr>
              <a:t>http://www.math.nus.edu.sg/~matmcinn/picture/Brueghel_the_elder_-_Hunters_in_the_snow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Охотники на снегу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5"/>
              </a:rPr>
              <a:t>http://img-fotki.yandex.ru/get/4711/53496785.93/0_78eee_36d30baa_XL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6"/>
              </a:rPr>
              <a:t>http://www.artholland.ru/art/r/rembrand/img/9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Портрет старика в красном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7"/>
              </a:rPr>
              <a:t>http://blog.artnn.ru/images_2006/vozvraschenie_bludnogo_syna_rembrandt_1669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Возвращение блудного сы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8"/>
              </a:rPr>
              <a:t>http://www.bibliotekar.ru/Kdurer/index.files/image00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9"/>
              </a:rPr>
              <a:t>http://www.zavtra.ru/cgi/veil/data/zavtra/11/906/8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Четыре апокалиптических всадник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0"/>
              </a:rPr>
              <a:t>http://www.lib.unc.edu/coursepages/reli/images/Durer_Erasmus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Эразм Роттердамск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1"/>
              </a:rPr>
              <a:t>http://s05.radikal.ru/i178/0908/02/4c6013b5b4b3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Ганс Гольбейн Млад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1/53/851/53851773_3warham.jpg - Ганс Гольбейн Младший – Портрет Уильяма Уорхэ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wga.hu/art/h/holbein/hans_y/1535/1wedigh.jpg - Ганс Гольбейн - Портрет члена семьи Ведигов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4/79/902/79902068_SelfPortrait_1643.jpg - Диего Веласкес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art-pics.ru/pics/1636/%C4%E8%E5%E3%EE%20%C2%E5%EB%E0%F1%EA%E5%F1-%C7%E0%E2%F2%F0%E0%EA.jpg – Диего Веласкес – Завтрак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varvar.ru/arhiv/gallery/baroque/velazquez/images/velazquez20.jpg - Диего Веласкес - Пряхи.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865400" cy="635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2209680"/>
            <a:ext cx="3657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она Лиза  (Джоконда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704960"/>
            <a:ext cx="8686800" cy="4722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Тайная вечеря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анта-Мария делле Грацие, Мила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8088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икеланджело Буонарро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(1475-1564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894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6524640" cy="541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2362320"/>
            <a:ext cx="2286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авид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Академия, Флоренция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63120" cy="414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3880" y="152280"/>
            <a:ext cx="71629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отворение Адам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Фрагмент росписи свода Сикстинской капеллы, Ватика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тихотворение из Цикла сонетов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05740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Кто создал всё, кто сотворил и части –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И после выбрал лучшую из н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Чтоб здесь явить нам чудо дел сво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Достойное его высокой власти…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10-26T08:58:2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